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984-C522-4E0A-AEE2-64CD8287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167-3457-4F11-A2BD-30546BF1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E89-6B46-433A-B7B8-8730E187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78E-B327-49D4-83F2-F715DBCB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C992-B238-4D98-99D0-72AC17E2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1B6C-49EB-48BF-86F3-C80B3805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7F86-A9F8-4115-A3A2-7E08FFDB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570E-6576-4DCE-B470-7B520ABD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B7A9-43C5-48F3-A56C-1DF77A92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1B6E-F6E3-4ED5-8D84-96193B69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9275-91B4-4530-A045-3635659D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9C0-AFDD-44B3-8873-FE823A71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056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1E88-0419-432B-AF13-5D940AE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DE21-9513-4555-8C98-3611E10C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FA27-57AB-4AB8-ACD0-780745F3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056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4327-EF78-42F5-829F-164DB17B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596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84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596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84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A7C1-C2D9-4979-AD34-1A2062CE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2F2-8B83-4EC2-AFC3-72D8E5F4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422-EA15-4FA2-818E-8BA5B2D4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3C6-3B91-4976-B898-7813DCE4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271-5F0D-4889-82F6-7AAD62FE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84A-DB17-403C-BA86-68371622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C7E-B504-41ED-B0F9-86D036C8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EA7-1FAA-4E46-884D-6FA9772A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872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	</a:t>
            </a:r>
            <a:fld id="{A9C3CAED-3496-4E17-8C7D-A76AE5104134}" type="slidenum"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010280" y="61722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33520" y="61722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4A3C-8C4F-4999-93B0-7DD50444335F}" type="slidenum">
              <a:rPr b="0" lang="en-US" sz="10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99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Life of Christ – Part 2</a:t>
            </a:r>
            <a:br>
              <a:rPr sz="48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“Sir, We Would See Jesus”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2481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0, Lesson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24-1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10:17-52; Luke 19:1-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9968-ACAB-4A18-A695-9C1C9B648218}" type="slidenum">
              <a:t>1</a:t>
            </a:fld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osing Practical Application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 the test that the rich young ruler failed:  Make sure God and His kingdom are most valuable to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true greatness in God’s kingdom is in sacrificial service to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and see with the eyes of your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re to take such interest in the Savior that he can go home with you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o use the talents and abilities God has given you to build a greater spiritual treasure ch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035-8373-4938-B781-62B922D9FA1A}" type="slidenum">
              <a:t>10</a:t>
            </a:fld>
          </a:p>
        </p:txBody>
      </p:sp>
    </p:spTree>
  </p:cSld>
  <p:transition>
    <p:strips dir="r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3504600" y="25909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bbe0e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3345000">
            <a:off x="3200040" y="38098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bbe0e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533520"/>
            <a:ext cx="3124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6e02"/>
                </a:solidFill>
                <a:latin typeface="Arial"/>
              </a:rPr>
              <a:t>Basic Outline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ears of Preparation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eginning Ministry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reat Galilean Ministry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iod of Retirement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Closing Ministry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Jesus starts His last journey to Jerusalem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Last Week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surrection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xaltation</a:t>
            </a:r>
            <a:endParaRPr b="0" lang="en-US" sz="2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11A-FB34-43D0-A79E-708112F080AD}" type="slidenum">
              <a:t>2</a:t>
            </a:fld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The Close of Jesus’ Ministr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utlined As Follow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rom Fall To The Spring of His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rrives in Jerusalem for Feast of Tabernacles  - Jno. 7-10; Luke 10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t of Dedication (three months before His death) – Jno. 10:22-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withdraws to Perea – Jno. 10:40-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tarts His last journey to Jerusalem – Luke 17: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B17-B4F5-4649-BE0D-B22057921313}" type="slidenum">
              <a:t>3</a:t>
            </a:fld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ast Journey to Jerusa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ich Young Ruler – Mark 10:17-31; Matt.19:16-20; Luke 18:18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d he observed all the command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tested on the issue of “other gods before God” (His material possessions had become his g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goes away from Jesus with a sad cou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could have had better things in the kingdom of God, though they are not material in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ernal life will be more than adequate compensation for any loss experienced in this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22C-7240-4222-AB3F-E6B7A91AAFE0}" type="slidenum">
              <a:t>4</a:t>
            </a:fld>
          </a:p>
        </p:txBody>
      </p:sp>
    </p:spTree>
  </p:cSld>
  <p:transition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ast Journey to Jerusa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gain foretells His death and resurrection ( Mark 10:32-34; Matt. 20:17-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postles just could not accept this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not at all what they had in mind or what they hoped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ill understand and appreciate it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187-8BFF-4695-9F41-0B677A872971}" type="slidenum">
              <a:t>5</a:t>
            </a:fld>
          </a:p>
        </p:txBody>
      </p:sp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ast Journey to Jerusa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rebukes the selfish request of James and John (Mark 10:35-45;  Matt. 20:20-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quest: “we want to sit in places of honor next to you in Your glorious kingdo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fusal: “you don’t know what you are ask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riction: The Father will determine future sitting arrang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entment: the other ten are upset with James and Joh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view: Going over the conditions for true grea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in humility and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lso in following Jesus through a baptism of suffe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A06-8681-4B58-B6D6-E5543E790101}" type="slidenum">
              <a:t>6</a:t>
            </a:fld>
          </a:p>
        </p:txBody>
      </p:sp>
    </p:spTree>
  </p:cSld>
  <p:transition>
    <p:strips dir="r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006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013360" y="2057400"/>
            <a:ext cx="4130640" cy="4800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6858000" y="2133720"/>
            <a:ext cx="914400" cy="609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590920"/>
            <a:ext cx="228600" cy="10666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428640" y="3657600"/>
            <a:ext cx="152280" cy="457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049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Crossing the Jordan and nearing Jericho</a:t>
            </a:r>
            <a:endParaRPr b="0" lang="en-US" sz="1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4E1-0F62-4136-B8C9-E137D30663E0}" type="slidenum">
              <a:t>7</a:t>
            </a:fld>
          </a:p>
        </p:txBody>
      </p:sp>
    </p:spTree>
  </p:cSld>
  <p:transition>
    <p:strips dir="r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ast Journey to Jerusa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ling of Bartimaeus the blind man and his companion (Mark 10:46-52; Matt. 20:29-34; Luke 18:35-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crossing the Jordan and nearing Jeri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saw Jesus as “Son of David” and knew Jesus could have mercy on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would let them see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opened their physical eyes in order to open others’ spiritual e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18B-1142-4009-8049-96726F9A5115}" type="slidenum">
              <a:t>8</a:t>
            </a:fld>
          </a:p>
        </p:txBody>
      </p:sp>
    </p:spTree>
  </p:cSld>
  <p:transition>
    <p:strips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Last Journey to Jerusalem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meets Zacchaeus (Luke 19:1-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treets of Jeric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ort man seeking to see a great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reat man is not too busy for a see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goes home with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inner seeking Jesus will gladly change his manner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d gladly brings salvation to penitent sin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’ parable of the Pou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expects all kingdom subjects to be diligent stewards of their particular measure of 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will punish slothful and careless ste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F16-AD07-4FE5-8263-1FAA64E74929}" type="slidenum">
              <a:t>9</a:t>
            </a:fld>
          </a:p>
        </p:txBody>
      </p:sp>
    </p:spTree>
  </p:cSld>
  <p:transition>
    <p:strips dir="r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17:27:15Z</dcterms:created>
  <dc:creator>Terry W. Benton</dc:creator>
  <dc:description/>
  <dc:language>en-US</dc:language>
  <cp:lastModifiedBy>Frank D Vines</cp:lastModifiedBy>
  <dcterms:modified xsi:type="dcterms:W3CDTF">2006-09-04T16:56:29Z</dcterms:modified>
  <cp:revision>3</cp:revision>
  <dc:subject/>
  <dc:title>Life of Christ – Part 2 “Sir, We Would See Jesus”</dc:title>
</cp:coreProperties>
</file>